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8F8-3C9E-40CD-B6D5-D5995FC6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AC7-39C8-42B9-9A0A-F1C7F8D3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1C8-CD0E-4333-AB9A-2ECDEC26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863-0011-47D3-A3A9-A0BBC1F9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0EE-E5DE-4EDB-89F7-2D81D110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9FC-36C3-4B7E-BE4A-E1B0685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D82-097A-429C-9E11-226BB30A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1BC-739F-4F27-BF21-83036A7F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B65-8CB6-4D78-AE63-C74EC36A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178-CA60-467A-A80C-8FCF1F9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4D8-EC43-4F4D-A252-F8C8EA5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0D2-5C73-4CA2-8BE4-9FC883DC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086-0E76-41D2-9DE2-CCEE3696B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98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verview about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sign o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nd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77" t="13118" r="2155" b="42283"/>
          <a:stretch/>
        </p:blipFill>
        <p:spPr>
          <a:xfrm>
            <a:off x="1066680" y="1295280"/>
            <a:ext cx="701064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3886" t="51020" r="16330" b="24171"/>
          <a:stretch/>
        </p:blipFill>
        <p:spPr>
          <a:xfrm>
            <a:off x="2895480" y="3886200"/>
            <a:ext cx="29718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44906" t="75842" r="16330" b="14507"/>
          <a:stretch/>
        </p:blipFill>
        <p:spPr>
          <a:xfrm>
            <a:off x="4724280" y="4800600"/>
            <a:ext cx="2895840" cy="45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80988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1828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47242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257800"/>
            <a:ext cx="70106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15834" r="0" b="49856"/>
          <a:stretch/>
        </p:blipFill>
        <p:spPr>
          <a:xfrm>
            <a:off x="914400" y="152388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55360" y="3962520"/>
            <a:ext cx="7479000" cy="1252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adjusted estimate that controls for conf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mask the fact that the E-D relationship differ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ategories of a control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1066680"/>
            <a:ext cx="243864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080" y="3086280"/>
            <a:ext cx="34099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vailable in this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239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1804" r="0" b="8224"/>
          <a:stretch/>
        </p:blipFill>
        <p:spPr>
          <a:xfrm>
            <a:off x="609480" y="15238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609480"/>
            <a:ext cx="777240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6:35Z</dcterms:modified>
  <cp:revision>111</cp:revision>
  <dc:subject/>
  <dc:title>The Art in the State of the Art</dc:title>
</cp:coreProperties>
</file>